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8CF-F570-483C-986B-844BED3F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A95-8D60-40FE-8587-D7C77AE7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B3A-A6A6-451D-A9F8-3D77D791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0FC-0443-420C-9082-AB6130DC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741A-CB84-4711-8C17-D16067B1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2FED-18B0-4A3E-9155-211A8238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6016-D26D-4E4C-9F34-F36C349B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425-07DA-42C5-A772-3BD17B9F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E957-ECC8-4B07-BA0B-B495BCF5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49C3-12C4-4039-964D-5CCED5F0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3DF6-1CF2-4810-A484-D3A234E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B1E-E8C9-4777-8F2C-7093080B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30C9-0290-4C8D-B935-B88E84D3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0A28-D988-45C2-AFAC-DD046577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351F-A2FE-4A02-B2C2-C16794E4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8B72-5D40-402B-9322-A04EE37C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CCE3-0310-4BB8-9AB6-715FE6FD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1D8-3B13-411F-BFF1-A47744AC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600-6A6F-4724-A8F6-6DD42B20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61F-01AC-4EF4-A9BF-55409A68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09E9-D4F6-455D-A1E0-ED3CB00D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21A-74E4-45D9-A137-E945716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427-7295-4F51-A1A1-52B845D1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53D-61D6-4AB4-AE35-A01B0142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3621-480F-4D65-B3A6-73D55E2DE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882C-8314-4C5C-AAA7-E286BBC7D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3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1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llel and Perpendic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lines have the same sl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ndicular lines have slopes whose product equals -1.  They are negative reciproc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2200320" cy="2257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22003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s in two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 a value for a variable that makes an equation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equation has two variables, it is a linear equation.   The values for the two variables together must make the equation tr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=10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write the solution for a linear equ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should be written in ordered pairs, with the order (x, 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solution for 2x-y=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ctangle or Cartesian Coordinat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section of the two perpendicular axes is called the origin.  The ordered pair for the origin is (0, 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raph an ordered pai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at the origin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right or left, based on the x valu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move up or down based on the 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4689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ng linear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orm for an equation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+By=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raph a linear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t least three solutions.  (To do this, pick a value of x and then find a value of y that will make the equation tru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thes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line throug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346860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is the numerical measure of the steepness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can be found using two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ur purposes, slope is shown by the variable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y</a:t>
            </a:r>
            <a:r>
              <a:rPr b="0" lang="en-U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-intercept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pe intercept form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mx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m= slope and b= the value at which the line crosses the y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ng from slope intercept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 point on y axis, corresponding to the value of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 to move upwards or down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nge in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4686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0:23:58Z</dcterms:created>
  <dc:creator>nuhs</dc:creator>
  <dc:description/>
  <dc:language>en-US</dc:language>
  <cp:lastModifiedBy>nuhs</cp:lastModifiedBy>
  <dcterms:modified xsi:type="dcterms:W3CDTF">2007-09-10T20:27:18Z</dcterms:modified>
  <cp:revision>1</cp:revision>
  <dc:subject/>
  <dc:title>Chapter 3 Review</dc:title>
</cp:coreProperties>
</file>